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814428"/>
        <c:axId val="1577661"/>
      </c:barChart>
      <c:catAx>
        <c:axId val="728144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7661"/>
        <c:crosses val="autoZero"/>
        <c:auto val="1"/>
        <c:lblAlgn val="ctr"/>
        <c:lblOffset val="100"/>
        <c:noMultiLvlLbl val="0"/>
      </c:catAx>
      <c:valAx>
        <c:axId val="1577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14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68F8-9621-45EF-B84D-966AFE6A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C1E-DECB-4CF9-A3D8-28B82D9E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52C-4BBA-4FE9-ACF2-CF9ECB8A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5D69-A2A8-4C12-A84E-4D25A5978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8EF7-7306-4674-9BAA-0D1A81B1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A037-8A2C-4337-BABC-2C54F7B2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29ED-AD8D-45DB-B137-48F93209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4170-A8D5-46E8-8452-9676F407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B284-5481-4CE5-B198-2B021BB7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94E3-41B7-4474-9092-567E1507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9BB4-5E00-436A-9631-1EBD4B49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26C2-BFBF-4756-88BA-8756B1ABF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DC62C-8704-44F9-A4EC-FA1C7AC973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