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59358"/>
        <c:axId val="54241254"/>
      </c:barChart>
      <c:catAx>
        <c:axId val="55959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41254"/>
        <c:crosses val="autoZero"/>
        <c:auto val="1"/>
        <c:lblAlgn val="ctr"/>
        <c:lblOffset val="100"/>
        <c:noMultiLvlLbl val="0"/>
      </c:catAx>
      <c:valAx>
        <c:axId val="54241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59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D95-A6B8-4B94-9D31-9EA00D07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D3D-277A-4FDC-89C2-B1BC3E60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4CC-3DE1-41C5-A6ED-FC3DACA7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542-B606-4C59-BBAF-FDB830C1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E2A-A9C7-4B07-9347-92EB0BFA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67F-8944-4963-9B55-5FC536F2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B21-E4FC-4668-A4AF-7043AB57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84D-795E-4303-A97F-1E9BAD00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C10-FA50-40A9-80C1-483F0E21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7E4-F1F2-4864-93D0-BA727B4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DA8-BCA1-403A-AE85-27F7357C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137-57E4-4501-A8D1-5D84E75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1CF56-4B13-4635-9715-D2A9FEAE22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